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E0F-E787-4F9E-9ABE-A7098F71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06F-BF85-4BB7-89FD-2A13946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8F5-4015-4A2E-A5BC-06C80162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A40-F6E0-4E1D-A24C-E2D01E0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D39-93D0-48DF-A36B-5C40D7D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0B8-62B1-4583-9EDF-6669CF0E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5E2-C24B-417A-BC8D-82468367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944-F6B1-47B6-BA33-7D9BA1F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6ED-2B56-4595-9574-51628F0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800-9623-459F-B976-A27293D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67A-53EC-49A4-8D9F-47D07B5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BC6-6814-40F9-9F02-6716054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B10-5C11-4A7E-AE25-0DEEA0DD2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the 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84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7080" y="106524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ral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96080" cy="318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6960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7696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189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7086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08660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43000" y="373392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35:58Z</dcterms:modified>
  <cp:revision>42</cp:revision>
  <dc:subject/>
  <dc:title>PowerPoint Presentation</dc:title>
</cp:coreProperties>
</file>